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CA30-C566-4519-B68E-91933F1F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8962-3B77-4B6F-A8C1-DAC9A2BA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E6FF-EAF3-48E3-9F5B-CD9719B5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C4A2-0088-4A1C-BCB8-32E2D1C3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8715-4C47-4806-9B50-2E57BBA8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62E-BA4F-49B9-85A5-02FFCDD3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54B1-693A-4AB6-B951-9D49B559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1884-D501-4CED-8C19-B9ACAF7B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62A8-9DD8-4E96-9992-58A682D7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49C6-D381-4C61-AB07-72837A22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8EDB-5FD2-4627-A0B2-62EF5932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703D-CB7C-4382-BDA8-CD922004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7954-92F0-40C3-A505-2D3CF1E8B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7 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6 de mayo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49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Puedes jugar deportes cuando tienes un resfria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e with the correct form of the ver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resa _______ futbol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jug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a _______ un partido manan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e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a _______ jugar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quer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a no _______ perder el partido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po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ella _______ el partido, su equipo no _______ ganar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perder, po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fortunadamente, Teresa _______ un poco enferm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t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-write each sentence using “Nosotro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Cultura y lectura: ¿Que le pasa a Adela?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62; en voz al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Comprendes?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63 (1-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B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p.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380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13:18:18Z</dcterms:created>
  <dc:creator>Helen Zumaeta</dc:creator>
  <dc:description/>
  <dc:language>en-US</dc:language>
  <cp:lastModifiedBy>Helen Zumaeta</cp:lastModifiedBy>
  <dcterms:modified xsi:type="dcterms:W3CDTF">2011-05-26T13:30:58Z</dcterms:modified>
  <cp:revision>1</cp:revision>
  <dc:subject/>
  <dc:title>Me llamo _________ Clase 7 im La fecha es el 26 de mayo del 2011</dc:title>
</cp:coreProperties>
</file>